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B76-283A-4D62-A580-CBA57543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36F-25F4-4FEA-AF02-922B1F4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2CC-7781-4F95-9F98-95FAFBE9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F08-77EB-41D4-97DB-FE4D5FCE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BC0-547A-416E-A633-39149A49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43E-4C5E-4E1B-AFD4-5D416170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860-BD9E-4BD3-B38A-5D0C24A3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1B7-48EE-4E65-8B62-56125CCB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42D-9A51-4B38-B1C6-4791D96C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05D-9F95-41E3-9143-CADCF28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EDA-F79C-44D3-9434-EB2A7BD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804-6D0A-47BB-AD04-F93CBCA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1F33-999A-4A7D-A67F-EDC22B06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 RUSSIA’S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iel Drisc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 W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belle 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ssian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where the red army (communists) defended  the Bolshevik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the treaty of Brest-Litov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echoslovak legion retaliates and takes control of trans-siberian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nti Bolshevik authorities ap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7:24Z</dcterms:created>
  <dc:creator> </dc:creator>
  <dc:description/>
  <dc:language>en-US</dc:language>
  <cp:lastModifiedBy> </cp:lastModifiedBy>
  <dcterms:modified xsi:type="dcterms:W3CDTF">2010-12-15T14:23:33Z</dcterms:modified>
  <cp:revision>2</cp:revision>
  <dc:subject/>
  <dc:title>MOTHER RUSSIA’S PAST</dc:title>
</cp:coreProperties>
</file>